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21E-0728-4A89-8B3E-DF5E797B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6B8-ADFE-43CF-83C6-D4035E1B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B81-EED1-48AE-9063-41F81525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F9E9-CBC9-4870-9440-72CDE4F5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DA75-9C6F-423E-9D48-AA7705DB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739D-D6B9-4EA7-8EEB-66BE6BAC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77E7-D94C-4928-9944-4490331E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C1F5-6432-4E5D-A4FA-1A96DB5F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C9AF-D6A8-4684-A8EB-2622D71D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AEFF-3F06-4AC2-AC69-BA20C7DD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C324-63BD-4265-ACC3-4DCAA930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C4A-75AC-46F0-8998-DB62E918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CD0B-1EED-460C-96C7-0F2574F5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B579-5C75-40BD-9F0F-63C12269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F97E-99AE-4018-8768-E4AD8699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229B-4DBA-420E-A9DC-DEF94957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A130-5928-43D7-A149-4187A9FD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639-8F25-4CC1-935D-CA54CDB9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750-3587-4FCB-8919-31EE39B9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098-7D7C-4DD8-A236-6E030F5D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F93-62D2-444C-9447-8CAE6A39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66B4-F874-423D-9D88-F366E926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044-96A4-4CD9-8CDA-024D4DD8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375-5B9F-4F55-A449-A4BB2AA6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3F05-8F66-41BC-AB13-9675E475B0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B35C-5681-4AD5-926D-34AA9188D6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Heimlich Maneuver by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lfred Darby 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0" y="6477120"/>
            <a:ext cx="76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ne knows when somebody going to ch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be any body at any place and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7621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No body kno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causes of chok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ting (especially eating and laughing at the same time, and eating to fast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cohol and drug consumption (even a small amount affects awareness.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uma to the head and face (bleeding can cause choking)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objects swallowed by child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ck of oxy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Heimlich Maneuver help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imlich maneuver helps people because people can be choking at anytime and you can save their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’re removing something stuck in the persons air pi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only takes 4 to 6 minutes to die without oxygen to the br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Heimlich Maneuver on An Adult"/>
          <p:cNvPicPr/>
          <p:nvPr/>
        </p:nvPicPr>
        <p:blipFill>
          <a:blip r:embed="rId1"/>
          <a:stretch/>
        </p:blipFill>
        <p:spPr>
          <a:xfrm>
            <a:off x="6172200" y="4481640"/>
            <a:ext cx="2971800" cy="2376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581280" y="4267080"/>
            <a:ext cx="2455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sk the choking person to stand if he or she is sitting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p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lace yourself slightly behind the standing victim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p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assure the victim that you know the Heimlich maneuver and are going to help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p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lace your arms around the victim's waist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p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ake a fist with one hand and place your thumb toward the victim, just above his or her belly button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p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Grab your fist with your other han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p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eliver five upward squeeze-thrusts into the abdomen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p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ake each squeeze-thrust strong enough to dislodge a foreign body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p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nderstand that your thrusts make the diaphragm move air out of the victim's lungs, creating a kind of artificial cough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p1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Keep a firm grip on the victim, since he or she can lose consciousness and fall to the ground if the Heimlich maneuver is not effective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p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eat the Heimlich maneuver until the foreign body is expelle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943600" y="1828800"/>
            <a:ext cx="20574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en Do I Use The Heimlich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on is grabbing the throat with the hand (the universal sign for choking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notice they are gagg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ear a weak ineffective cough, noisy breathing, or high-pitched sound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on is starting to look blu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How To Do The Heimlich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 behind the choking person and wrap your arm around his or her wai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 thumb side of the fist against middle of person’s abdomen just above the navel and well below the rib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 your fist into the person’s abdomen with quick, upward thrus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abdominal thrusts until the object is coughed up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 YOU ENJOYED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95280" y="2666880"/>
            <a:ext cx="4929480" cy="188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z Ov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6:00:01Z</dcterms:created>
  <dc:creator>046student</dc:creator>
  <dc:description/>
  <dc:language>en-US</dc:language>
  <cp:lastModifiedBy>046student</cp:lastModifiedBy>
  <dcterms:modified xsi:type="dcterms:W3CDTF">2008-10-31T15:20:24Z</dcterms:modified>
  <cp:revision>3</cp:revision>
  <dc:subject/>
  <dc:title>The Heimlich Maneuver by Alfred Darby  </dc:title>
</cp:coreProperties>
</file>